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E628-FC4C-4BA1-A9BA-608A16AAE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2A15-58A9-453B-B3D8-65352722F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541B-A21E-4FEE-B89B-76B4F10D1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9F32-A209-40A5-B3EF-7E6E15141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005-81CB-4290-891C-7D5E36867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4DAE-3E81-4E6D-ADE3-814C105FD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522F-C8A0-4F03-A9E6-0D07B9F4C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C43E-CB1F-410E-A90A-E0943D7B2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83F5-CB9D-4E33-B920-C6D45A1AC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1D2A-5338-438F-8F88-B0B7A4D9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ED332-DAB5-4FC9-A1DC-317547BE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3C2A-A005-40D7-AF23-B52E6D35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27E3-D130-4FA5-8B13-B76F7FD05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C26-5E76-46E1-8AC8-09C9DD04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65A-1A45-45A6-B246-4DD163ED6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5A99-B134-46E0-9D3B-FEA1595E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4E2A-EA73-4E66-A855-B35F32CB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0B3B-53F7-4D0E-9BCD-E4B6709B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CB2-10DC-440D-A574-3211B68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988B-9F87-45A0-99CF-894130EC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DEE1-B4A5-48A6-8DF0-DD1CB958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44C-B8A0-4993-A738-3BD1F183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C6D8-DF9E-4E34-BFD4-BDA9043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E318-B9C8-43A0-9D58-C718E460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4190-C1EE-4704-9443-950DBA6B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Nick McKeown, Stanford Univer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4518-2560-4739-A0B3-DA9E6F0870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ools.ietf.org/html/rfc791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8191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 and the Internet Protocol (I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4251240"/>
            <a:ext cx="534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mic Sans MS"/>
              </a:rPr>
              <a:t>Tahir Az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731520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4) addresses are 32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interface has a unique IP addr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might have two or more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outer has many 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hierarch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contain a network ID and a host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Stanford addresses start with: 171.64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addresses are assigned statically or dynamically (e.g. DH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(Version 6) addresses are 128 bit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P Dat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08320" y="2425680"/>
            <a:ext cx="6033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2680" y="1905120"/>
            <a:ext cx="7063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82680" y="2946240"/>
            <a:ext cx="1413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95680" y="1905120"/>
            <a:ext cx="141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08320" y="2946240"/>
            <a:ext cx="282600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89000" y="190512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108320" y="1905120"/>
            <a:ext cx="282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otal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82680" y="2425680"/>
            <a:ext cx="2825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1680" y="2425680"/>
            <a:ext cx="2222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5680" y="2946240"/>
            <a:ext cx="1412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82680" y="3467160"/>
            <a:ext cx="565164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RC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282680" y="3987720"/>
            <a:ext cx="565164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ST IP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82680" y="4508640"/>
            <a:ext cx="4944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508640"/>
            <a:ext cx="70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PA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285920" y="48769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22304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8880" y="3657600"/>
            <a:ext cx="13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&lt;=64 K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77240" y="1905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7724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91520" y="19051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 within original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6324480" y="2286000"/>
            <a:ext cx="1067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2280" y="2666880"/>
            <a:ext cx="130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p 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946240"/>
            <a:ext cx="3891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5200" y="5638680"/>
            <a:ext cx="549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tools.ietf.org/html/rfc7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networksorcery.com/enp/default090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9144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riginal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ere were 5 clas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16160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824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57440" y="1419120"/>
            <a:ext cx="14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71880" y="14191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81480" y="1673280"/>
            <a:ext cx="103500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419640" y="1682640"/>
            <a:ext cx="19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91000" y="16826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167328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167328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362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B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19640" y="2428920"/>
            <a:ext cx="39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76800" y="242892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5796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2419200"/>
            <a:ext cx="924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86560" y="1403280"/>
            <a:ext cx="61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7440" y="216540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19720" y="216540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2139840"/>
            <a:ext cx="619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381480" y="2419200"/>
            <a:ext cx="207648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11796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C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7440" y="3184560"/>
            <a:ext cx="3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76800" y="318456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t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96200" y="3174840"/>
            <a:ext cx="103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96200" y="3174840"/>
            <a:ext cx="923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ost-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80988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57440" y="2921040"/>
            <a:ext cx="276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19720" y="2921040"/>
            <a:ext cx="447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24800" y="2905200"/>
            <a:ext cx="618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381480" y="3174840"/>
            <a:ext cx="311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3879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D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457440" y="3946680"/>
            <a:ext cx="5144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81360" y="3946680"/>
            <a:ext cx="2219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ulticast Group 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3936960"/>
            <a:ext cx="364824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387972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505320" y="3683160"/>
            <a:ext cx="276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8400" y="3683160"/>
            <a:ext cx="4474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81480" y="3936960"/>
            <a:ext cx="504720" cy="304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464184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“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457440" y="4708440"/>
            <a:ext cx="657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11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81360" y="4708440"/>
            <a:ext cx="221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e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971880" y="4699080"/>
            <a:ext cx="356256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2520" y="4641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33760" y="4444920"/>
            <a:ext cx="276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86400" y="4444920"/>
            <a:ext cx="447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81480" y="4699080"/>
            <a:ext cx="590400" cy="304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16480" y="16160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57960" y="23623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96200" y="311796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48240" y="16732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41920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19600" y="31654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87280" y="537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03480" y="56340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0348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989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9916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5372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4516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1600" y="52578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07360" y="525780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49280" y="525780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14280" y="525780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94440" y="5557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57320" y="5637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135920" y="5637240"/>
            <a:ext cx="66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0" lang="en-US" sz="1800" spc="-1" strike="noStrike" baseline="30000">
                <a:solidFill>
                  <a:srgbClr val="000099"/>
                </a:solidFill>
                <a:latin typeface="Comic Sans MS"/>
              </a:rPr>
              <a:t>32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es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2046240"/>
            <a:ext cx="76201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A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www.mit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8.181.0.3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8&lt;128 =&gt; Class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s “B” addres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ekong.stanford.e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171.64.74.155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                        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(128&lt;171&lt;128+64 =&gt; Class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5840" y="51814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classes were too “rigid”. For most organizations, Class C were too small and Class B too big. Led to inefficient use of address space, and a shortage of addr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s with internal routers needed to have a separate (Class C) network ID for each lin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every other router in the Internet had to know about every network ID in every organization, which led to large address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organizations wanted Class B in case they grew to more than 255 hosts. But there were only about 16,000 Class B network ID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P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Two solutions were introduc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bnet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an organization to subdivide the organization’s network 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Classless Interdomain Rou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IDR) in the Internet backbone was introduced in 1993 to provide more efficient and flexible use of IP address spa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DR is also known as “supernetting” because subnetting and CIDR are basically the same id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: The Internet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P 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less Interdomain Routing (CID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ide: Turning names into addresses (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ing IP Dat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er 3 (The Network Laye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s packets from sending to receiving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sending side, encapsulates packets into data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receiving side, delivers the packet to the transport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layer protocols run on every host and router in th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Network-Layer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packets from router’s input to appropriate router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path taken by packets to go from sender to 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ing algorithms”: run at routers to determine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rs have “forwarding tabl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destination address in datagram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17560" y="259092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17560" y="311148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17560" y="3632040"/>
            <a:ext cx="2001960" cy="520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17560" y="4152960"/>
            <a:ext cx="200196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114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/ UD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3632040"/>
            <a:ext cx="12189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364824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3127320"/>
            <a:ext cx="99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3127320"/>
            <a:ext cx="53316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84680"/>
            <a:ext cx="15238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5880" y="3784680"/>
            <a:ext cx="5335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34120" y="349560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29624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31273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CP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37846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P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120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ocol 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ternet Protocol (I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1523880"/>
            <a:ext cx="72388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Characteristic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CONNECTIONLESS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is-seque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UNRELIABLE: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ay drop packet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BEST EFFORT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… but only if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DATAGRA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ndividually ro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06880" y="4554360"/>
            <a:ext cx="1546200" cy="849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482840" y="4299120"/>
            <a:ext cx="380880" cy="380880"/>
            <a:chOff x="1482840" y="4299120"/>
            <a:chExt cx="380880" cy="380880"/>
          </a:xfrm>
        </p:grpSpPr>
        <p:sp>
          <p:nvSpPr>
            <p:cNvPr id="81" name=""/>
            <p:cNvSpPr/>
            <p:nvPr/>
          </p:nvSpPr>
          <p:spPr>
            <a:xfrm>
              <a:off x="1482840" y="429912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522800" y="431640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927520" y="4767120"/>
            <a:ext cx="38088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23920" y="48099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0800" y="441972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95120" y="44625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90800" y="5164200"/>
            <a:ext cx="38124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95120" y="520704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54440" y="4782960"/>
            <a:ext cx="381240" cy="381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58760" y="482616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118200" y="4316400"/>
            <a:ext cx="380880" cy="380880"/>
            <a:chOff x="6118200" y="4316400"/>
            <a:chExt cx="380880" cy="380880"/>
          </a:xfrm>
        </p:grpSpPr>
        <p:sp>
          <p:nvSpPr>
            <p:cNvPr id="92" name=""/>
            <p:cNvSpPr/>
            <p:nvPr/>
          </p:nvSpPr>
          <p:spPr>
            <a:xfrm>
              <a:off x="6118200" y="431640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47000" y="433368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84464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43600" y="4554360"/>
            <a:ext cx="107460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63880" y="4554360"/>
            <a:ext cx="677880" cy="26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375000" y="46450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4641840"/>
            <a:ext cx="3319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187960" y="455616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411480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419112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49400" y="4678200"/>
            <a:ext cx="677880" cy="263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84720" y="5170320"/>
            <a:ext cx="263520" cy="138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70320" y="5168880"/>
            <a:ext cx="320760" cy="163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235480" y="4708440"/>
            <a:ext cx="73656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4191120"/>
            <a:ext cx="2514600" cy="1487520"/>
          </a:xfrm>
          <a:custGeom>
            <a:avLst/>
            <a:gdLst/>
            <a:ahLst/>
            <a:rect l="l" t="t" r="r" b="b"/>
            <a:pathLst>
              <a:path w="1584" h="937">
                <a:moveTo>
                  <a:pt x="342" y="787"/>
                </a:moveTo>
                <a:cubicBezTo>
                  <a:pt x="349" y="815"/>
                  <a:pt x="357" y="885"/>
                  <a:pt x="396" y="889"/>
                </a:cubicBezTo>
                <a:cubicBezTo>
                  <a:pt x="426" y="892"/>
                  <a:pt x="456" y="893"/>
                  <a:pt x="486" y="895"/>
                </a:cubicBezTo>
                <a:cubicBezTo>
                  <a:pt x="529" y="924"/>
                  <a:pt x="598" y="931"/>
                  <a:pt x="648" y="937"/>
                </a:cubicBezTo>
                <a:cubicBezTo>
                  <a:pt x="784" y="935"/>
                  <a:pt x="920" y="935"/>
                  <a:pt x="1056" y="931"/>
                </a:cubicBezTo>
                <a:cubicBezTo>
                  <a:pt x="1082" y="930"/>
                  <a:pt x="1128" y="901"/>
                  <a:pt x="1128" y="901"/>
                </a:cubicBezTo>
                <a:cubicBezTo>
                  <a:pt x="1183" y="908"/>
                  <a:pt x="1241" y="920"/>
                  <a:pt x="1278" y="871"/>
                </a:cubicBezTo>
                <a:cubicBezTo>
                  <a:pt x="1306" y="786"/>
                  <a:pt x="1426" y="791"/>
                  <a:pt x="1494" y="757"/>
                </a:cubicBezTo>
                <a:cubicBezTo>
                  <a:pt x="1509" y="734"/>
                  <a:pt x="1527" y="714"/>
                  <a:pt x="1542" y="691"/>
                </a:cubicBezTo>
                <a:cubicBezTo>
                  <a:pt x="1554" y="642"/>
                  <a:pt x="1568" y="595"/>
                  <a:pt x="1584" y="547"/>
                </a:cubicBezTo>
                <a:cubicBezTo>
                  <a:pt x="1577" y="442"/>
                  <a:pt x="1574" y="450"/>
                  <a:pt x="1548" y="373"/>
                </a:cubicBezTo>
                <a:cubicBezTo>
                  <a:pt x="1551" y="327"/>
                  <a:pt x="1574" y="273"/>
                  <a:pt x="1548" y="235"/>
                </a:cubicBezTo>
                <a:cubicBezTo>
                  <a:pt x="1544" y="230"/>
                  <a:pt x="1536" y="232"/>
                  <a:pt x="1530" y="229"/>
                </a:cubicBezTo>
                <a:cubicBezTo>
                  <a:pt x="1514" y="222"/>
                  <a:pt x="1498" y="213"/>
                  <a:pt x="1482" y="205"/>
                </a:cubicBezTo>
                <a:cubicBezTo>
                  <a:pt x="1448" y="188"/>
                  <a:pt x="1408" y="180"/>
                  <a:pt x="1374" y="163"/>
                </a:cubicBezTo>
                <a:cubicBezTo>
                  <a:pt x="1342" y="147"/>
                  <a:pt x="1325" y="116"/>
                  <a:pt x="1296" y="97"/>
                </a:cubicBezTo>
                <a:cubicBezTo>
                  <a:pt x="1248" y="65"/>
                  <a:pt x="1205" y="27"/>
                  <a:pt x="1152" y="1"/>
                </a:cubicBezTo>
                <a:cubicBezTo>
                  <a:pt x="1120" y="6"/>
                  <a:pt x="1104" y="18"/>
                  <a:pt x="1074" y="25"/>
                </a:cubicBezTo>
                <a:cubicBezTo>
                  <a:pt x="1006" y="20"/>
                  <a:pt x="944" y="9"/>
                  <a:pt x="876" y="1"/>
                </a:cubicBezTo>
                <a:cubicBezTo>
                  <a:pt x="818" y="3"/>
                  <a:pt x="760" y="0"/>
                  <a:pt x="702" y="7"/>
                </a:cubicBezTo>
                <a:cubicBezTo>
                  <a:pt x="688" y="9"/>
                  <a:pt x="680" y="27"/>
                  <a:pt x="666" y="31"/>
                </a:cubicBezTo>
                <a:cubicBezTo>
                  <a:pt x="612" y="46"/>
                  <a:pt x="591" y="45"/>
                  <a:pt x="522" y="49"/>
                </a:cubicBezTo>
                <a:cubicBezTo>
                  <a:pt x="464" y="53"/>
                  <a:pt x="348" y="61"/>
                  <a:pt x="348" y="61"/>
                </a:cubicBezTo>
                <a:cubicBezTo>
                  <a:pt x="334" y="63"/>
                  <a:pt x="319" y="62"/>
                  <a:pt x="306" y="67"/>
                </a:cubicBezTo>
                <a:cubicBezTo>
                  <a:pt x="281" y="77"/>
                  <a:pt x="283" y="112"/>
                  <a:pt x="264" y="127"/>
                </a:cubicBezTo>
                <a:cubicBezTo>
                  <a:pt x="254" y="135"/>
                  <a:pt x="240" y="140"/>
                  <a:pt x="228" y="145"/>
                </a:cubicBezTo>
                <a:cubicBezTo>
                  <a:pt x="208" y="154"/>
                  <a:pt x="183" y="154"/>
                  <a:pt x="162" y="163"/>
                </a:cubicBezTo>
                <a:cubicBezTo>
                  <a:pt x="145" y="170"/>
                  <a:pt x="114" y="187"/>
                  <a:pt x="114" y="187"/>
                </a:cubicBezTo>
                <a:cubicBezTo>
                  <a:pt x="42" y="284"/>
                  <a:pt x="101" y="195"/>
                  <a:pt x="90" y="481"/>
                </a:cubicBezTo>
                <a:cubicBezTo>
                  <a:pt x="89" y="505"/>
                  <a:pt x="94" y="534"/>
                  <a:pt x="78" y="553"/>
                </a:cubicBezTo>
                <a:cubicBezTo>
                  <a:pt x="60" y="574"/>
                  <a:pt x="32" y="581"/>
                  <a:pt x="12" y="601"/>
                </a:cubicBezTo>
                <a:cubicBezTo>
                  <a:pt x="7" y="615"/>
                  <a:pt x="0" y="635"/>
                  <a:pt x="0" y="649"/>
                </a:cubicBezTo>
                <a:cubicBezTo>
                  <a:pt x="0" y="767"/>
                  <a:pt x="130" y="741"/>
                  <a:pt x="210" y="763"/>
                </a:cubicBezTo>
                <a:cubicBezTo>
                  <a:pt x="241" y="772"/>
                  <a:pt x="259" y="786"/>
                  <a:pt x="288" y="799"/>
                </a:cubicBezTo>
                <a:cubicBezTo>
                  <a:pt x="300" y="804"/>
                  <a:pt x="316" y="821"/>
                  <a:pt x="324" y="811"/>
                </a:cubicBezTo>
                <a:cubicBezTo>
                  <a:pt x="330" y="803"/>
                  <a:pt x="336" y="795"/>
                  <a:pt x="342" y="7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236600" y="4782960"/>
            <a:ext cx="5666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08280" y="4782960"/>
            <a:ext cx="30456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181480" y="4160880"/>
            <a:ext cx="876240" cy="228600"/>
            <a:chOff x="5181480" y="4160880"/>
            <a:chExt cx="876240" cy="228600"/>
          </a:xfrm>
        </p:grpSpPr>
        <p:sp>
          <p:nvSpPr>
            <p:cNvPr id="110" name=""/>
            <p:cNvSpPr/>
            <p:nvPr/>
          </p:nvSpPr>
          <p:spPr>
            <a:xfrm>
              <a:off x="5181480" y="4160880"/>
              <a:ext cx="56700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3160" y="4160880"/>
              <a:ext cx="304560" cy="228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0560" y="50292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5130720"/>
            <a:ext cx="101520" cy="920880"/>
          </a:xfrm>
          <a:custGeom>
            <a:avLst/>
            <a:gdLst>
              <a:gd name="textAreaLeft" fmla="*/ 0 w 101520"/>
              <a:gd name="textAreaRight" fmla="*/ 36720 w 101520"/>
              <a:gd name="textAreaTop" fmla="*/ 23760 h 920880"/>
              <a:gd name="textAreaBottom" fmla="*/ 897120 h 9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86600" y="5383080"/>
            <a:ext cx="175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4752720" y="5403600"/>
            <a:ext cx="447480" cy="37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190520" y="2343240"/>
            <a:ext cx="380880" cy="380880"/>
            <a:chOff x="1190520" y="2343240"/>
            <a:chExt cx="380880" cy="380880"/>
          </a:xfrm>
        </p:grpSpPr>
        <p:sp>
          <p:nvSpPr>
            <p:cNvPr id="119" name=""/>
            <p:cNvSpPr/>
            <p:nvPr/>
          </p:nvSpPr>
          <p:spPr>
            <a:xfrm>
              <a:off x="119052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30480" y="2360520"/>
              <a:ext cx="31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371600" y="2724120"/>
            <a:ext cx="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2705040"/>
            <a:ext cx="990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90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7000" y="3029040"/>
            <a:ext cx="223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33560" y="3683160"/>
            <a:ext cx="2652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670720" y="3029040"/>
            <a:ext cx="653760" cy="654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70720" y="300996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4680" y="25718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=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7346880" y="2343240"/>
            <a:ext cx="380880" cy="380880"/>
            <a:chOff x="7346880" y="2343240"/>
            <a:chExt cx="380880" cy="380880"/>
          </a:xfrm>
        </p:grpSpPr>
        <p:sp>
          <p:nvSpPr>
            <p:cNvPr id="130" name=""/>
            <p:cNvSpPr/>
            <p:nvPr/>
          </p:nvSpPr>
          <p:spPr>
            <a:xfrm>
              <a:off x="7346880" y="2343240"/>
              <a:ext cx="380880" cy="380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75680" y="2360520"/>
              <a:ext cx="311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7527960" y="27050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30320" y="2057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061040" y="2057400"/>
            <a:ext cx="14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00560" y="3257640"/>
            <a:ext cx="19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TU&lt;15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71600"/>
            <a:ext cx="819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Problem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 router may receive a packet larger than the maximum transmission unit (MTU) of the outgoing li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76360" y="3409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345456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129200"/>
            <a:ext cx="9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mic Sans MS"/>
              </a:rPr>
              <a:t>Solution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R1 fragments the IP datagram into mutiple, self-contained data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76360" y="4710240"/>
            <a:ext cx="2729160" cy="3952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05520" y="4710240"/>
            <a:ext cx="1218960" cy="395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572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0024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24480" y="5715000"/>
            <a:ext cx="118584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96280" y="5715000"/>
            <a:ext cx="1038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DR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ID=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85800" y="5105520"/>
            <a:ext cx="169056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5105520"/>
            <a:ext cx="239076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1476360" cy="533160"/>
          </a:xfrm>
          <a:prstGeom prst="wedgeRoundRectCallout">
            <a:avLst>
              <a:gd name="adj1" fmla="val 92796"/>
              <a:gd name="adj2" fmla="val 103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&gt;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5867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294680" y="4710240"/>
            <a:ext cx="1476360" cy="533160"/>
          </a:xfrm>
          <a:prstGeom prst="wedgeRoundRectCallout">
            <a:avLst>
              <a:gd name="adj1" fmla="val -13870"/>
              <a:gd name="adj2" fmla="val 13987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Offset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More Frag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gments are re-assembled by the destination host; not by intermediate router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fragmentation, hosts commonly use path MTU discovery to find the smallest MTU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 MTU discovery involves sending various size datagrams until they do not require fragmentation along the p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inks use MTU&gt;=1500bytes to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: 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000"/>
            </a:br>
            <a:r>
              <a:rPr b="0" lang="en-US" sz="2000" spc="-1" strike="noStrike">
                <a:solidFill>
                  <a:srgbClr val="000099"/>
                </a:solidFill>
                <a:latin typeface="Courier New"/>
              </a:rPr>
              <a:t>traceroute –f berkeley.edu 15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F=1 set in IP header; routers send “ICMP” error message, which is shown as “!F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Bonu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you find a destination for which the path MTU &lt; 1500 by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gment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25480" y="1600200"/>
            <a:ext cx="3517920" cy="45259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you tell why the data field is 3280 bytes rather than 33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440" y="60958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tcpipguid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9:05:03Z</dcterms:created>
  <dc:creator>tahir</dc:creator>
  <dc:description/>
  <dc:language>en-US</dc:language>
  <cp:lastModifiedBy>tahir</cp:lastModifiedBy>
  <dcterms:modified xsi:type="dcterms:W3CDTF">2008-03-26T19:31:12Z</dcterms:modified>
  <cp:revision>26</cp:revision>
  <dc:subject/>
  <dc:title>Slide 1</dc:title>
</cp:coreProperties>
</file>