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766FC-0920-4FC7-9009-0AD947C80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326E4-A42F-4242-8DD5-A77F54253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CF355-1596-4C07-A132-0360907BD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300A6-F119-463E-B85C-21CF96C44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8E908-FEE6-492B-82FE-7901C49FF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E5D13-6B4D-4ED0-A979-E800DED38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8382F-DEF6-4E90-8B63-3059ABA7D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14FEF-4C84-445C-B42E-375B36114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71E09-EE3C-41CB-8B16-9D7CD8954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D4448-5C8F-49E0-AFB2-C4B4EB6B4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D538F-9EF9-4A22-BD3D-47034D40B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AE75E-3503-44F3-AD82-F9440674E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CC58F-6B0E-424F-B9C4-7919EB6549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x88x.com/2008/O7P98609.bmp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711828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42" name="" descr=""/>
          <p:cNvPicPr/>
          <p:nvPr/>
        </p:nvPicPr>
        <p:blipFill>
          <a:blip r:embed="rId3"/>
          <a:stretch/>
        </p:blipFill>
        <p:spPr>
          <a:xfrm>
            <a:off x="611280" y="40464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979640" y="0"/>
            <a:ext cx="5543640" cy="7134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BH" sz="2400" spc="-1" strike="noStrike">
                <a:solidFill>
                  <a:srgbClr val="ffffff"/>
                </a:solidFill>
                <a:latin typeface="Forte"/>
                <a:cs typeface="Andalus"/>
              </a:rPr>
              <a:t>وهاهي السماء تمطر مل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BH" sz="2400" spc="-1" strike="noStrike">
                <a:solidFill>
                  <a:srgbClr val="ffffff"/>
                </a:solidFill>
                <a:latin typeface="Forte"/>
                <a:cs typeface="Andalus"/>
              </a:rPr>
              <a:t>لتزرع في الارض الكس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BH" sz="2400" spc="-1" strike="noStrike">
                <a:solidFill>
                  <a:srgbClr val="ffffff"/>
                </a:solidFill>
                <a:latin typeface="Forte"/>
                <a:cs typeface="Andalus"/>
              </a:rPr>
              <a:t>وتصرخ الدنيا كل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BH" sz="2400" spc="-1" strike="noStrike">
                <a:solidFill>
                  <a:srgbClr val="ffffff"/>
                </a:solidFill>
                <a:latin typeface="Forte"/>
                <a:cs typeface="Andalus"/>
              </a:rPr>
              <a:t>وحتى العظام وحتى القل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BH" sz="2400" spc="-1" strike="noStrike">
                <a:solidFill>
                  <a:srgbClr val="ffffff"/>
                </a:solidFill>
                <a:latin typeface="Forte"/>
                <a:cs typeface="Andalus"/>
              </a:rPr>
              <a:t>والآن توقف العم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BH" sz="2400" spc="-1" strike="noStrike">
                <a:solidFill>
                  <a:srgbClr val="ffffff"/>
                </a:solidFill>
                <a:latin typeface="Forte"/>
                <a:cs typeface="Andalus"/>
              </a:rPr>
              <a:t>فاليأس قاتل الام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BH" sz="2400" spc="-1" strike="noStrike">
                <a:solidFill>
                  <a:srgbClr val="ffffff"/>
                </a:solidFill>
                <a:latin typeface="Forte"/>
                <a:cs typeface="Andalus"/>
              </a:rPr>
              <a:t>فلا طريق للعل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BH" sz="2400" spc="-1" strike="noStrike">
                <a:solidFill>
                  <a:srgbClr val="ffffff"/>
                </a:solidFill>
                <a:latin typeface="Forte"/>
                <a:cs typeface="Andalus"/>
              </a:rPr>
              <a:t>ولا طريق للعم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BH" sz="2400" spc="-1" strike="noStrike">
                <a:solidFill>
                  <a:srgbClr val="ffffff"/>
                </a:solidFill>
                <a:latin typeface="Forte"/>
                <a:cs typeface="Andalus"/>
              </a:rPr>
              <a:t>فبلوغ المنا صعب المنا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BH" sz="2400" spc="-1" strike="noStrike">
                <a:solidFill>
                  <a:srgbClr val="ffffff"/>
                </a:solidFill>
                <a:latin typeface="Forte"/>
                <a:cs typeface="Andalus"/>
              </a:rPr>
              <a:t>وصعود السلالم للجب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BH" sz="2400" spc="-1" strike="noStrike">
                <a:solidFill>
                  <a:srgbClr val="ffffff"/>
                </a:solidFill>
                <a:latin typeface="Forte"/>
                <a:cs typeface="Andalus"/>
              </a:rPr>
              <a:t>صعب وأصعب العم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BH" sz="2400" spc="-1" strike="noStrike">
                <a:solidFill>
                  <a:srgbClr val="ffffff"/>
                </a:solidFill>
                <a:latin typeface="Forte"/>
                <a:cs typeface="Andalus"/>
              </a:rPr>
              <a:t>ولون الكآبة اشتعل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BH" sz="2400" spc="-1" strike="noStrike">
                <a:solidFill>
                  <a:srgbClr val="ffffff"/>
                </a:solidFill>
                <a:latin typeface="Forte"/>
                <a:cs typeface="Andalus"/>
              </a:rPr>
              <a:t>ولون الدنيا كل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244000" y="1773360"/>
            <a:ext cx="90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 rot="17539200">
            <a:off x="5269320" y="2586240"/>
            <a:ext cx="4721400" cy="208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394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9900"/>
                    </a:gs>
                    <a:gs pos="100000">
                      <a:srgbClr val="ffcc99"/>
                    </a:gs>
                  </a:gsLst>
                  <a:lin ang="17562000"/>
                </a:gradFill>
                <a:latin typeface="Arial Black"/>
              </a:rPr>
              <a:t>الملل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9900"/>
                  </a:gs>
                  <a:gs pos="100000">
                    <a:srgbClr val="ffcc99"/>
                  </a:gs>
                </a:gsLst>
                <a:lin ang="17562000"/>
              </a:gradFill>
              <a:latin typeface="Arial Black"/>
              <a:ea typeface="Arial Black"/>
            </a:endParaRPr>
          </a:p>
        </p:txBody>
      </p:sp>
      <p:sp>
        <p:nvSpPr>
          <p:cNvPr id="46" name=""/>
          <p:cNvSpPr txBox="1"/>
          <p:nvPr/>
        </p:nvSpPr>
        <p:spPr>
          <a:xfrm rot="17503200">
            <a:off x="-273600" y="2804040"/>
            <a:ext cx="39513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4588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gradFill rotWithShape="0">
                  <a:gsLst>
                    <a:gs pos="0">
                      <a:srgbClr val="cc9900"/>
                    </a:gs>
                    <a:gs pos="100000">
                      <a:srgbClr val="ffcc99"/>
                    </a:gs>
                  </a:gsLst>
                  <a:lin ang="17598000"/>
                </a:gradFill>
                <a:latin typeface="Arial Black"/>
              </a:rPr>
              <a:t>قاتل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cc9900"/>
                  </a:gs>
                  <a:gs pos="100000">
                    <a:srgbClr val="ffcc99"/>
                  </a:gs>
                </a:gsLst>
                <a:lin ang="17598000"/>
              </a:gra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13240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" dur="77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" dur="770" fill="hold"/>
                                        <p:tgtEl>
                                          <p:spTgt spid="4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" dur="77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77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" dur="770" fill="hold"/>
                                        <p:tgtEl>
                                          <p:spTgt spid="4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1" dur="77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" dur="77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2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5" dur="1" fill="hold"/>
                                  <p:tgtEl>
                                    <p:spTgt spid="4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a5002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1T17:03:01Z</dcterms:created>
  <dc:creator>ALI</dc:creator>
  <dc:description/>
  <dc:language>en-US</dc:language>
  <cp:lastModifiedBy>ALI</cp:lastModifiedBy>
  <dcterms:modified xsi:type="dcterms:W3CDTF">2008-07-21T18:29:19Z</dcterms:modified>
  <cp:revision>2</cp:revision>
  <dc:subject/>
  <dc:title>الشريحة 1</dc:title>
</cp:coreProperties>
</file>