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8630-BD79-4662-B564-9ABC45E52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C6C8-3C08-4384-B389-97A2EA7C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0447-A318-4640-9A35-E16D88B70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484B-5D20-45BC-9EFF-4E8CFFF4C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E1EC-6F4E-47A2-8019-2B81B752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9BF0-AE02-47F0-9793-BAD10C41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7D44-766F-40D1-886E-F5AE68DD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11A8-E7BE-48CC-98CF-1C06320F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5BE2-F11A-4FD5-AA79-7BA6B9EE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4399-EDEA-4640-BD2D-F6CD2C7F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D17F-7B51-45FE-AB4D-D4B8E2C3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648B-558F-4973-AE1C-752A16AE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171C-BC6C-4A27-8475-09D620F46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x88x.com/2008/O7P98609.bmp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79640" y="0"/>
            <a:ext cx="5543640" cy="71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هاهي السماء تمطر م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لتزرع في الارض الكس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تصرخ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حتى العظام وحتى الق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الآن توقف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اليأس قاتل الا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لا طريق للعل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ا طريق ل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بلوغ المنا صعب المن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صعود السلالم للجب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صعب وأصعب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كآبة اشتع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44000" y="1773360"/>
            <a:ext cx="9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 rot="17539200">
            <a:off x="5269320" y="2586240"/>
            <a:ext cx="4721400" cy="20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62000"/>
                </a:gradFill>
                <a:latin typeface="Arial Black"/>
              </a:rPr>
              <a:t>الملل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62000"/>
              </a:gra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 rot="17503200">
            <a:off x="-273600" y="2804040"/>
            <a:ext cx="3951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58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98000"/>
                </a:gradFill>
                <a:latin typeface="Arial Black"/>
              </a:rPr>
              <a:t>قاتل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98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32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" dur="1" fill="hold"/>
                                  <p:tgtEl>
                                    <p:spTgt spid="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7:03:01Z</dcterms:created>
  <dc:creator>ALI</dc:creator>
  <dc:description/>
  <dc:language>en-US</dc:language>
  <cp:lastModifiedBy>ALI</cp:lastModifiedBy>
  <dcterms:modified xsi:type="dcterms:W3CDTF">2008-07-21T18:29:19Z</dcterms:modified>
  <cp:revision>2</cp:revision>
  <dc:subject/>
  <dc:title>الشريحة 1</dc:title>
</cp:coreProperties>
</file>